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AE5B-258C-438D-9743-15187CC2F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78FA-59E9-422D-B588-DD3C214E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09AB-8C5C-4104-881C-4A7B13CC8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837F-6904-48C6-81F7-9165A1939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3A41-0ACE-4AE6-AE16-5E9C5DA6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7E23-54D4-4D2D-B42A-479EEC85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D586-BE38-4FB1-9210-AC15FC86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2987-0B5B-48D7-86D0-837CC04C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CB63-9F23-467F-9F61-ECE00337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0F5A-A1CD-480E-A986-B140AE84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86BC-4B57-423E-8E54-95988228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FAE9-1C93-4959-9185-3A49C72A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A491-F7B9-4A3E-A4AB-1DA1DC01E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ily Star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ugust 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day- August 16, 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vocabulary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each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ate, abdica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duct, aber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86200" y="3124080"/>
            <a:ext cx="2362320" cy="129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2666520" y="335232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742840" y="4343400"/>
            <a:ext cx="1676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6095880" y="312372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67280" y="4267080"/>
            <a:ext cx="12956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29200" y="4419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2895480"/>
            <a:ext cx="160020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4952880"/>
            <a:ext cx="198108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86200" y="5638680"/>
            <a:ext cx="236232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d used in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29400" y="2819520"/>
            <a:ext cx="19810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4724280"/>
            <a:ext cx="190512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lustratio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4290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3124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ony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95280" y="51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ony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2971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esday – August 17, 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only two pieces to form the same “shovel” with the “snow” on the OUT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me what changes you need to m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3581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3581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45720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3733920"/>
            <a:ext cx="53352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9880" y="4724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dnesday – August 18, 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the vocabulary from Monday if you have not finished.  If you have finished please study for the vocabulary test over the words on Friday.  You will be requir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words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m correc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ursday – August 19, 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see in the art work.  Write for 5 minutes.  Time yourselves and b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ON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743200" y="2476440"/>
            <a:ext cx="38480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day – August 20, 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Vocabulary Quiz – Write the correct word in the sentence and then define the word correctly from the definitions provi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ate, abdic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duct, aber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hing that differs from the nor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educe, le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kidnap, take by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ive up a position, usually one of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.  In 1918, the Boston Red Sox won the World Series, but the success turned out to be an __________, and the Red Sox have not won a World Series si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.  The rain poured down for a while, then 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.  When he realized that the revolutionaries would surely win, the king _______________his thr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4.  The evildoers _______________ the fairy princess from her happy h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 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erration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hing that differs from the n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ated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duce, le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dicated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ive up a position, usually one of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ducted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kidnap, take by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t work called Woman in Temple by Marten Jans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3T16:57:03Z</dcterms:created>
  <dc:creator>e201000859</dc:creator>
  <dc:description/>
  <dc:language>en-US</dc:language>
  <cp:lastModifiedBy>e201000859</cp:lastModifiedBy>
  <dcterms:modified xsi:type="dcterms:W3CDTF">2010-08-13T18:34:32Z</dcterms:modified>
  <cp:revision>2</cp:revision>
  <dc:subject/>
  <dc:title>Daily Starters</dc:title>
</cp:coreProperties>
</file>